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Lati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923-157B-43A6-AA72-DC062BF4B1CA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943-D603-4329-8270-A0C039F4F787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E32-B1F8-4C79-822A-56C59004255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2F2-BFE9-42B3-BC4B-CF48809B45B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3A3-5F96-413A-B12F-46C730D25F8A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DF07-757F-4BDA-8375-F19AD17F3520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889-A1E3-4C4E-9AAB-53792381E9A5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21C-62CB-43C0-A9F5-CF595D9A53A0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60E9-1845-4595-A907-26A5437C557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49D8-B2A1-4B1A-9B0E-0F4CAA6E5DD3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B16D-6AF2-445E-AF37-2AF0A70D58FA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9EA-230B-4FD4-89EF-3A53883F89C8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94F-2029-4751-B297-726AA2A5FB3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815-F33A-4976-AE87-5E5E9DD952CD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2285-27CD-44F3-B3F8-3F8FA52AA81B}" type="slidenum">
              <a:rPr b="0" lang="en-US" sz="1200" spc="-1" strike="noStrike">
                <a:solidFill>
                  <a:srgbClr val="000000"/>
                </a:solidFill>
                <a:latin typeface="GaramondLat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179-E7AD-4143-9549-6FAE1045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4E1-FE34-4738-9F9A-D09DA70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A79-D954-4C6D-BA07-9CEF5425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56E-CBCD-4209-9BD7-533EE377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19B-808B-468B-9793-ECDCC843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317-AE80-4C45-BA58-FB0423E7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C08-637E-468A-8B2C-D8D78D78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33F-4DA6-4B6E-ABDD-483B115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883-32E9-4242-8563-AFD33BD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CCE-03BA-4821-80A9-9C1F4DD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908-E4F2-4D77-983D-015138A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475-9EAD-430A-8CDA-2BB3914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34BB-0B03-4B7E-B87C-12C3CBB04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welve major deities of ancient 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Nuntius deōrum Rōmānōrum quī gerit ālas in caligīs et in petasō.  Deus quī prōtegit viatōrēs et mercātōrē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3656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Mercuri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75" name="Picture 7" descr="ElecHseEm6"/>
          <p:cNvPicPr/>
          <p:nvPr/>
        </p:nvPicPr>
        <p:blipFill>
          <a:blip r:embed="rId1"/>
          <a:stretch/>
        </p:blipFill>
        <p:spPr>
          <a:xfrm>
            <a:off x="4724280" y="1828800"/>
            <a:ext cx="2241720" cy="43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messis et cultūrae agrōrum; tenet frūmen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eres"/>
          <p:cNvPicPr/>
          <p:nvPr/>
        </p:nvPicPr>
        <p:blipFill>
          <a:blip r:embed="rId1"/>
          <a:stretch/>
        </p:blipFill>
        <p:spPr>
          <a:xfrm>
            <a:off x="2743200" y="2209680"/>
            <a:ext cx="3814920" cy="328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971800" y="5675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ē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quī facit arma prō virīs et fulgura prō I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11354_14a8079eb6"/>
          <p:cNvPicPr/>
          <p:nvPr/>
        </p:nvPicPr>
        <p:blipFill>
          <a:blip r:embed="rId1"/>
          <a:stretch/>
        </p:blipFill>
        <p:spPr>
          <a:xfrm>
            <a:off x="4952880" y="1600200"/>
            <a:ext cx="208764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990720" y="312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ulcā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sapientiae, et bellī, et contextūs.  Adulta ea nata est ex fronte patris Io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inerva"/>
          <p:cNvPicPr/>
          <p:nvPr/>
        </p:nvPicPr>
        <p:blipFill>
          <a:blip r:embed="rId1"/>
          <a:stretch/>
        </p:blipFill>
        <p:spPr>
          <a:xfrm>
            <a:off x="3124080" y="1828800"/>
            <a:ext cx="1667160" cy="407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486400" y="3771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v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1840" y="104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  <p:pic>
        <p:nvPicPr>
          <p:cNvPr id="86" name="Picture 5" descr="ceres"/>
          <p:cNvPicPr/>
          <p:nvPr/>
        </p:nvPicPr>
        <p:blipFill>
          <a:blip r:embed="rId1"/>
          <a:stretch/>
        </p:blipFill>
        <p:spPr>
          <a:xfrm>
            <a:off x="3271680" y="2308320"/>
            <a:ext cx="2600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Deus s</a:t>
            </a: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ōlis, mūsicae, arcūs &amp; sagittārum, et medicīn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apollo"/>
          <p:cNvPicPr/>
          <p:nvPr/>
        </p:nvPicPr>
        <p:blipFill>
          <a:blip r:embed="rId1"/>
          <a:stretch/>
        </p:blipFill>
        <p:spPr>
          <a:xfrm>
            <a:off x="1828800" y="1469880"/>
            <a:ext cx="54100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590920" y="5790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Apoll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Lūnae et vēnātiōnis.  Graecē nōminātur Artemis.  Frāter est Apoll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diana"/>
          <p:cNvPicPr/>
          <p:nvPr/>
        </p:nvPicPr>
        <p:blipFill>
          <a:blip r:embed="rId1"/>
          <a:stretch/>
        </p:blipFill>
        <p:spPr>
          <a:xfrm>
            <a:off x="3124080" y="1676520"/>
            <a:ext cx="2681280" cy="3693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133720" y="579024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ān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x deōrum hominumque.  Facit fulguribus tempestātes.  Eius avis est aqu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upiter"/>
          <p:cNvPicPr/>
          <p:nvPr/>
        </p:nvPicPr>
        <p:blipFill>
          <a:blip r:embed="rId1"/>
          <a:stretch/>
        </p:blipFill>
        <p:spPr>
          <a:xfrm>
            <a:off x="3200400" y="1752480"/>
            <a:ext cx="2814480" cy="4222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562720" y="3904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ppiter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Dea amōris et pulchritūdinis.  Māter hērōis Aenē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romvenus"/>
          <p:cNvPicPr/>
          <p:nvPr/>
        </p:nvPicPr>
        <p:blipFill>
          <a:blip r:embed="rId1"/>
          <a:stretch/>
        </p:blipFill>
        <p:spPr>
          <a:xfrm>
            <a:off x="3773520" y="2057400"/>
            <a:ext cx="1596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76720" y="5485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-Roman"/>
                <a:ea typeface="GaramondLatin-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maris. Frāter est Iuppiter.  Terra tremefactātur tridente su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neptune"/>
          <p:cNvPicPr/>
          <p:nvPr/>
        </p:nvPicPr>
        <p:blipFill>
          <a:blip r:embed="rId1"/>
          <a:stretch/>
        </p:blipFill>
        <p:spPr>
          <a:xfrm>
            <a:off x="1752480" y="1905120"/>
            <a:ext cx="301788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10080" y="335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Neptūnu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Rēgīna deōrum et hominum.  Marītus eius est Iuppiter.  Pavō est eius av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uno"/>
          <p:cNvPicPr/>
          <p:nvPr/>
        </p:nvPicPr>
        <p:blipFill>
          <a:blip r:embed="rId1"/>
          <a:stretch/>
        </p:blipFill>
        <p:spPr>
          <a:xfrm>
            <a:off x="3505320" y="1523880"/>
            <a:ext cx="2133360" cy="45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14400" y="3771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ūnō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us bellī et pater Rōmulī et Remī.  Gerit arma ad Rōmam dēfendend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Mars-soldiers-CpyRt"/>
          <p:cNvPicPr/>
          <p:nvPr/>
        </p:nvPicPr>
        <p:blipFill>
          <a:blip r:embed="rId1"/>
          <a:stretch/>
        </p:blipFill>
        <p:spPr>
          <a:xfrm>
            <a:off x="1981080" y="1905120"/>
            <a:ext cx="3138480" cy="337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638680" y="3161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GaramondLatin"/>
              </a:rPr>
              <a:t>Dea flammae sacrae quae in templō suō semper ardet ut Rōma omnibus temporibus tūta s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romvesta"/>
          <p:cNvPicPr/>
          <p:nvPr/>
        </p:nvPicPr>
        <p:blipFill>
          <a:blip r:embed="rId1"/>
          <a:stretch/>
        </p:blipFill>
        <p:spPr>
          <a:xfrm>
            <a:off x="3276720" y="1752480"/>
            <a:ext cx="1751040" cy="3581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867280" y="4151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Latin"/>
              </a:rPr>
              <a:t>Vesta</a:t>
            </a:r>
            <a:endParaRPr b="0" lang="en-US" sz="2400" spc="-1" strike="noStrike">
              <a:solidFill>
                <a:srgbClr val="000000"/>
              </a:solidFill>
              <a:latin typeface="GaramondLati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02:39Z</dcterms:created>
  <dc:creator>William H. Snyder</dc:creator>
  <dc:description/>
  <dc:language>en-US</dc:language>
  <cp:lastModifiedBy>CFF</cp:lastModifiedBy>
  <dcterms:modified xsi:type="dcterms:W3CDTF">2011-01-17T16:18:19Z</dcterms:modified>
  <cp:revision>13</cp:revision>
  <dc:subject/>
  <dc:title>The twelve major deities of ancient Rome</dc:title>
</cp:coreProperties>
</file>